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55075-7F68-4DEC-869F-349E1192F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9EF-BC64-4DB0-A89A-0DB40D63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BB-9BCF-4806-87BC-327D318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CB7-D2E4-43E2-B50A-EED0000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0CB-C033-456A-BA55-53FFF7F0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DC7-9BDB-4B53-808C-9BA88649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1F7-D17E-4192-8A9C-C33C3F42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C1A-A6B9-41E4-923D-5E6EFEB2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4B1-0ED7-4F8A-B069-0C7CE1E9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42F-EA3E-4B3E-B729-D2E360A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D98-77B9-4B4C-A13A-3A12A22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99A-42A1-41E6-858F-C56E1770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E94-9245-40AC-8983-3D77132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A863A-241A-4C03-BE8E-CB0927577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11800" y="900000"/>
            <a:ext cx="67993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I Know Tha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My Redeemer 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14840" y="269892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71200" y="1619280"/>
            <a:ext cx="83584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my Redeemer lives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ever prays (and ever prays)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eternal life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sin and sorrow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6880" y="1619280"/>
            <a:ext cx="823212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wills (He wills) that I should holy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word, in tho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n word, in tho’t) and d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n I (then I) His holy face ma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from this earth-life fr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2800" y="1476360"/>
            <a:ext cx="86374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unto sinfu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saving grace (His saving grace) is n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He will come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take me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7080" y="1547640"/>
            <a:ext cx="830988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over yonder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place prep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a place prepared)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home (a home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house not made with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st wonderfu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ila Jones</cp:lastModifiedBy>
  <dcterms:modified xsi:type="dcterms:W3CDTF">2006-06-12T19:10:12Z</dcterms:modified>
  <cp:revision>2</cp:revision>
  <dc:subject/>
  <dc:title>Slide 1</dc:title>
</cp:coreProperties>
</file>